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type.wav" ContentType="audio/x-wav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.wmf" ContentType="image/x-wmf"/>
  <Override PartName="/ppt/media/image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B37A-0B60-4900-9B2B-AA8E8A9198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01E9-B990-4205-870F-6DD3E9A169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8E0F-3A5B-4FC2-8279-76DECB382F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4AFA-D000-4272-A29C-FEA2089B76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FCE4-3D90-4AB5-84E9-150DC6F4C9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28A-71DF-4792-B0E1-C674598A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417-40C6-406E-B0F6-E62F0A6D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E75-51A4-4388-A7AB-1C3AC101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3FF-B4E7-4E96-ABF0-DB51B646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76F-036B-4552-895D-EFEC4EEF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690-3D63-4AD1-A8E8-E06BE712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88E3-A4BA-4173-8F2E-B3681993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41D-3760-4E3B-911F-B96924FC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7AA-CFA3-4D89-8CE3-5DA7FED8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EF1-9F7C-4FE7-82B8-5C1CDF7D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1A1-7F92-427B-A7E2-56CBBA0B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8E2-C775-4879-AB7A-BD40BBB6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7AFC-A27C-40AC-9F57-D36D578C15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1.xml"/><Relationship Id="rId5" Type="http://schemas.openxmlformats.org/officeDocument/2006/relationships/slide" Target="slide14.xml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image" Target="../media/image16.wmf"/><Relationship Id="rId19" Type="http://schemas.openxmlformats.org/officeDocument/2006/relationships/image" Target="../media/image16.wm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981160" y="3238920"/>
            <a:ext cx="29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2.4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分式方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二章 分式和分式方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2">
            <a:hlinkClick r:id="rId3" action="ppaction://hlinksldjump"/>
          </p:cNvPr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SubTitle_3">
            <a:hlinkClick r:id="rId4" action="ppaction://hlinksldjump"/>
          </p:cNvPr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H_SubTitle_4">
            <a:hlinkClick r:id="rId5" action="ppaction://hlinksldjump"/>
          </p:cNvPr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7" name="MH_Other_7" descr=""/>
            <p:cNvPicPr/>
            <p:nvPr/>
          </p:nvPicPr>
          <p:blipFill>
            <a:blip r:embed="rId6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71" name="MH_Other_9" descr=""/>
            <p:cNvPicPr/>
            <p:nvPr/>
          </p:nvPicPr>
          <p:blipFill>
            <a:blip r:embed="rId7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MH_Other_11" descr=""/>
          <p:cNvPicPr/>
          <p:nvPr/>
        </p:nvPicPr>
        <p:blipFill>
          <a:blip r:embed="rId8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1079640" y="123660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式方程的增根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39640" y="1812960"/>
            <a:ext cx="8123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去分母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将分式方程转化为整式方程的过程中出现的不适合于原方程的根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181880" y="2892600"/>
            <a:ext cx="25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式方程产生增根的原因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66560" y="3468600"/>
            <a:ext cx="812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式方程两边同乘以一个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零因式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后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所得的根是整式方程的根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不是分式方程的根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3"/>
          <p:cNvGrpSpPr/>
          <p:nvPr/>
        </p:nvGrpSpPr>
        <p:grpSpPr>
          <a:xfrm>
            <a:off x="466560" y="765000"/>
            <a:ext cx="8213760" cy="819360"/>
            <a:chOff x="466560" y="765000"/>
            <a:chExt cx="8213760" cy="819360"/>
          </a:xfrm>
        </p:grpSpPr>
        <p:sp>
          <p:nvSpPr>
            <p:cNvPr id="184" name="文本框 1"/>
            <p:cNvSpPr/>
            <p:nvPr/>
          </p:nvSpPr>
          <p:spPr>
            <a:xfrm>
              <a:off x="466560" y="908280"/>
              <a:ext cx="82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方程：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5" name="对象 5121"/>
            <p:cNvGraphicFramePr/>
            <p:nvPr/>
          </p:nvGraphicFramePr>
          <p:xfrm>
            <a:off x="2121840" y="765000"/>
            <a:ext cx="1375200" cy="819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对象 512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21840" y="765000"/>
                      <a:ext cx="1375200" cy="8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"/>
          <p:cNvSpPr/>
          <p:nvPr/>
        </p:nvSpPr>
        <p:spPr>
          <a:xfrm>
            <a:off x="466560" y="1628640"/>
            <a:ext cx="6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5123"/>
          <p:cNvSpPr/>
          <p:nvPr/>
        </p:nvSpPr>
        <p:spPr>
          <a:xfrm>
            <a:off x="1549440" y="1801800"/>
            <a:ext cx="48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方程两边都乘以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–2) 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5124"/>
          <p:cNvSpPr/>
          <p:nvPr/>
        </p:nvSpPr>
        <p:spPr>
          <a:xfrm>
            <a:off x="1368360" y="23414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3(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– 2 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5125"/>
          <p:cNvSpPr/>
          <p:nvPr/>
        </p:nvSpPr>
        <p:spPr>
          <a:xfrm>
            <a:off x="1116000" y="3213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这个方程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126"/>
          <p:cNvSpPr/>
          <p:nvPr/>
        </p:nvSpPr>
        <p:spPr>
          <a:xfrm>
            <a:off x="828720" y="3916440"/>
            <a:ext cx="5410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检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将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3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入原方程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左边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1 =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右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127"/>
          <p:cNvSpPr/>
          <p:nvPr/>
        </p:nvSpPr>
        <p:spPr>
          <a:xfrm>
            <a:off x="963720" y="500364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原方程的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文本框 1"/>
          <p:cNvSpPr/>
          <p:nvPr/>
        </p:nvSpPr>
        <p:spPr>
          <a:xfrm>
            <a:off x="466560" y="907920"/>
            <a:ext cx="82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程：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对象 10242"/>
          <p:cNvGraphicFramePr/>
          <p:nvPr/>
        </p:nvGraphicFramePr>
        <p:xfrm>
          <a:off x="2050920" y="692280"/>
          <a:ext cx="253224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对象 1024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692280"/>
                    <a:ext cx="2532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6"/>
          <p:cNvSpPr/>
          <p:nvPr/>
        </p:nvSpPr>
        <p:spPr>
          <a:xfrm>
            <a:off x="682560" y="184464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8"/>
          <p:cNvGrpSpPr/>
          <p:nvPr/>
        </p:nvGrpSpPr>
        <p:grpSpPr>
          <a:xfrm>
            <a:off x="1763640" y="1989000"/>
            <a:ext cx="5838840" cy="1922760"/>
            <a:chOff x="1763640" y="1989000"/>
            <a:chExt cx="5838840" cy="1922760"/>
          </a:xfrm>
        </p:grpSpPr>
        <p:sp>
          <p:nvSpPr>
            <p:cNvPr id="198" name="文本框 10241"/>
            <p:cNvSpPr/>
            <p:nvPr/>
          </p:nvSpPr>
          <p:spPr>
            <a:xfrm>
              <a:off x="1763640" y="1989000"/>
              <a:ext cx="5838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方程两边都乘以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得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这个方程，得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9" name="对象 1"/>
            <p:cNvGraphicFramePr/>
            <p:nvPr/>
          </p:nvGraphicFramePr>
          <p:xfrm>
            <a:off x="4499640" y="1989000"/>
            <a:ext cx="753480" cy="488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0" name="对象 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99640" y="1989000"/>
                      <a:ext cx="753480" cy="48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对象 5"/>
            <p:cNvGraphicFramePr/>
            <p:nvPr/>
          </p:nvGraphicFramePr>
          <p:xfrm>
            <a:off x="5219640" y="2708640"/>
            <a:ext cx="1051200" cy="482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2" name="对象 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219640" y="2708640"/>
                      <a:ext cx="1051200" cy="48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3" name="文本框 7"/>
          <p:cNvSpPr/>
          <p:nvPr/>
        </p:nvSpPr>
        <p:spPr>
          <a:xfrm>
            <a:off x="395280" y="3502080"/>
            <a:ext cx="8193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检验：将 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5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入原方程，方程的分母为零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，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5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方程的增根，原方程无实根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组合 1"/>
          <p:cNvGrpSpPr/>
          <p:nvPr/>
        </p:nvGrpSpPr>
        <p:grpSpPr>
          <a:xfrm>
            <a:off x="466560" y="692280"/>
            <a:ext cx="8213760" cy="1041480"/>
            <a:chOff x="466560" y="692280"/>
            <a:chExt cx="8213760" cy="1041480"/>
          </a:xfrm>
        </p:grpSpPr>
        <p:sp>
          <p:nvSpPr>
            <p:cNvPr id="205" name="文本框 1"/>
            <p:cNvSpPr/>
            <p:nvPr/>
          </p:nvSpPr>
          <p:spPr>
            <a:xfrm>
              <a:off x="466560" y="908280"/>
              <a:ext cx="821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.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当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为何值时，方程                  会产生增根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6" name="对象 11267"/>
            <p:cNvGraphicFramePr/>
            <p:nvPr/>
          </p:nvGraphicFramePr>
          <p:xfrm>
            <a:off x="3778560" y="692280"/>
            <a:ext cx="2464200" cy="946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对象 1126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78560" y="692280"/>
                      <a:ext cx="2464200" cy="94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8" name="Text Box 6"/>
          <p:cNvSpPr/>
          <p:nvPr/>
        </p:nvSpPr>
        <p:spPr>
          <a:xfrm>
            <a:off x="466560" y="1628640"/>
            <a:ext cx="6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403280" y="17733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方程两边同乘以最简公分母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    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482920" y="242244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)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627280" y="30002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6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546200" y="3503520"/>
            <a:ext cx="43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方程，得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6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403280" y="41511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原分式方程有增根，所以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1473120" y="48704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得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即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80"/>
          <p:cNvSpPr/>
          <p:nvPr/>
        </p:nvSpPr>
        <p:spPr>
          <a:xfrm>
            <a:off x="2080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073880" y="62064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式方程的概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898560" y="1197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母中含有未知数的方程叫做分式方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1206360" y="170172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分式方程的步骤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82560" y="3141720"/>
            <a:ext cx="812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解这个整式方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82560" y="2205000"/>
            <a:ext cx="812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去分母，在方程的两边同时乘以最简公分母，把分式方法转化为整式方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682560" y="3573360"/>
            <a:ext cx="812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检验，把一元一次方程的根代入所乘的最简公分母中，看结果是否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2560" y="4508640"/>
            <a:ext cx="812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写出是原分式方程的解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1073880" y="501336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式方程的增根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82560" y="5518080"/>
            <a:ext cx="812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去分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分式方程转化为整式方程的过程中出现的不适合于原方程的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8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9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分式方程的意义，掌握解分式方程的基本思路和解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分式方程无解及出现增根的原因，掌握分式方程验根的方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1"/>
          <p:cNvSpPr/>
          <p:nvPr/>
        </p:nvSpPr>
        <p:spPr>
          <a:xfrm>
            <a:off x="428760" y="979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11280" y="2060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什么叫一元一次方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682560" y="3141720"/>
            <a:ext cx="5554800" cy="1666440"/>
            <a:chOff x="682560" y="3141720"/>
            <a:chExt cx="5554800" cy="1666440"/>
          </a:xfrm>
        </p:grpSpPr>
        <p:sp>
          <p:nvSpPr>
            <p:cNvPr id="87" name="Text Box 7"/>
            <p:cNvSpPr/>
            <p:nvPr/>
          </p:nvSpPr>
          <p:spPr>
            <a:xfrm>
              <a:off x="682560" y="3141720"/>
              <a:ext cx="555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下列方程哪些是一元一次方程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8" name="对象 4100"/>
            <p:cNvGraphicFramePr/>
            <p:nvPr/>
          </p:nvGraphicFramePr>
          <p:xfrm>
            <a:off x="1064880" y="3727440"/>
            <a:ext cx="1617840" cy="389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对象 410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64880" y="3727440"/>
                      <a:ext cx="1617840" cy="3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对象 4101"/>
            <p:cNvGraphicFramePr/>
            <p:nvPr/>
          </p:nvGraphicFramePr>
          <p:xfrm>
            <a:off x="3780000" y="3717000"/>
            <a:ext cx="1506240" cy="34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1" name="对象 410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780000" y="3717000"/>
                      <a:ext cx="1506240" cy="34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对象 4102"/>
            <p:cNvGraphicFramePr/>
            <p:nvPr/>
          </p:nvGraphicFramePr>
          <p:xfrm>
            <a:off x="1187280" y="4436280"/>
            <a:ext cx="1416600" cy="371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3" name="对象 410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87280" y="4436280"/>
                      <a:ext cx="1416600" cy="3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对象 4103"/>
            <p:cNvGraphicFramePr/>
            <p:nvPr/>
          </p:nvGraphicFramePr>
          <p:xfrm>
            <a:off x="3851640" y="4221360"/>
            <a:ext cx="1559520" cy="581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5" name="对象 4103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851640" y="4221360"/>
                      <a:ext cx="1559520" cy="58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6147"/>
          <p:cNvGrpSpPr/>
          <p:nvPr/>
        </p:nvGrpSpPr>
        <p:grpSpPr>
          <a:xfrm>
            <a:off x="325440" y="246240"/>
            <a:ext cx="3298680" cy="808200"/>
            <a:chOff x="325440" y="246240"/>
            <a:chExt cx="3298680" cy="808200"/>
          </a:xfrm>
        </p:grpSpPr>
        <p:sp>
          <p:nvSpPr>
            <p:cNvPr id="98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6151"/>
            <p:cNvSpPr/>
            <p:nvPr/>
          </p:nvSpPr>
          <p:spPr>
            <a:xfrm>
              <a:off x="1523160" y="5202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分式方程的相关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3"/>
          <p:cNvSpPr/>
          <p:nvPr/>
        </p:nvSpPr>
        <p:spPr>
          <a:xfrm>
            <a:off x="250920" y="1052640"/>
            <a:ext cx="83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 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艘轮船在静水中的最大航速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沿江  以最大航速顺流航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所用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以最大航速逆流航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所用时间相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江水的流速为多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24000" y="2781360"/>
            <a:ext cx="72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设江水的流速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千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根据题意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对象 5123"/>
          <p:cNvGraphicFramePr/>
          <p:nvPr/>
        </p:nvGraphicFramePr>
        <p:xfrm>
          <a:off x="1835280" y="3645000"/>
          <a:ext cx="2476440" cy="97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对象 51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3645000"/>
                    <a:ext cx="247644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AutoShape 7"/>
          <p:cNvSpPr/>
          <p:nvPr/>
        </p:nvSpPr>
        <p:spPr>
          <a:xfrm>
            <a:off x="5075280" y="3789360"/>
            <a:ext cx="3887640" cy="1208160"/>
          </a:xfrm>
          <a:prstGeom prst="wedgeEllipseCallout">
            <a:avLst>
              <a:gd name="adj1" fmla="val -68277"/>
              <a:gd name="adj2" fmla="val -28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母中含未知数的方程叫做分式方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1145160" y="90972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式方程的概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1108800" y="242100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式方程的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042920" y="17017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母中含有未知数的方程叫做分式方程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042920" y="3068640"/>
            <a:ext cx="568800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是等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方程中含有分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分母中含有未知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对象 7169"/>
          <p:cNvGraphicFramePr/>
          <p:nvPr/>
        </p:nvGraphicFramePr>
        <p:xfrm>
          <a:off x="892080" y="2717640"/>
          <a:ext cx="175428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对象 7169" descr="水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2080" y="2717640"/>
                    <a:ext cx="17542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对象 7170"/>
          <p:cNvGraphicFramePr/>
          <p:nvPr/>
        </p:nvGraphicFramePr>
        <p:xfrm>
          <a:off x="1044720" y="1422360"/>
          <a:ext cx="1584360" cy="990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对象 7170" descr="水滴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4720" y="1422360"/>
                    <a:ext cx="15843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对象 7171"/>
          <p:cNvGraphicFramePr/>
          <p:nvPr/>
        </p:nvGraphicFramePr>
        <p:xfrm>
          <a:off x="892080" y="3936960"/>
          <a:ext cx="1654200" cy="1066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对象 7171" descr="水滴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92080" y="3936960"/>
                    <a:ext cx="1654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对象 7172"/>
          <p:cNvGraphicFramePr/>
          <p:nvPr/>
        </p:nvGraphicFramePr>
        <p:xfrm>
          <a:off x="3406680" y="2717640"/>
          <a:ext cx="1987560" cy="1065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9" name="对象 7172" descr="水滴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06680" y="2717640"/>
                    <a:ext cx="19875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对象 7173"/>
          <p:cNvGraphicFramePr/>
          <p:nvPr/>
        </p:nvGraphicFramePr>
        <p:xfrm>
          <a:off x="3059280" y="3933720"/>
          <a:ext cx="2376360" cy="1035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1" name="对象 717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59280" y="3933720"/>
                    <a:ext cx="23763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对象 7174"/>
          <p:cNvGraphicFramePr/>
          <p:nvPr/>
        </p:nvGraphicFramePr>
        <p:xfrm>
          <a:off x="898560" y="5086440"/>
          <a:ext cx="1820880" cy="1176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3" name="对象 717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98560" y="5086440"/>
                    <a:ext cx="1820880" cy="11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对象 7175"/>
          <p:cNvGraphicFramePr/>
          <p:nvPr/>
        </p:nvGraphicFramePr>
        <p:xfrm>
          <a:off x="3178080" y="5154480"/>
          <a:ext cx="2808360" cy="1013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5" name="对象 717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78080" y="5154480"/>
                    <a:ext cx="280836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对象 7176"/>
          <p:cNvGraphicFramePr/>
          <p:nvPr/>
        </p:nvGraphicFramePr>
        <p:xfrm>
          <a:off x="3419640" y="1486080"/>
          <a:ext cx="2822400" cy="988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7" name="对象 717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419640" y="1486080"/>
                    <a:ext cx="28224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13"/>
          <p:cNvSpPr/>
          <p:nvPr/>
        </p:nvSpPr>
        <p:spPr>
          <a:xfrm>
            <a:off x="684360" y="9079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方程中，哪些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式方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？哪些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整式方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4"/>
          <p:cNvGrpSpPr/>
          <p:nvPr/>
        </p:nvGrpSpPr>
        <p:grpSpPr>
          <a:xfrm>
            <a:off x="5845320" y="1270080"/>
            <a:ext cx="2895480" cy="2514600"/>
            <a:chOff x="5845320" y="1270080"/>
            <a:chExt cx="2895480" cy="2514600"/>
          </a:xfrm>
        </p:grpSpPr>
        <p:pic>
          <p:nvPicPr>
            <p:cNvPr id="130" name="Picture 15" descr="ri3hqoey[1]"/>
            <p:cNvPicPr/>
            <p:nvPr/>
          </p:nvPicPr>
          <p:blipFill>
            <a:blip r:embed="rId18"/>
            <a:stretch/>
          </p:blipFill>
          <p:spPr>
            <a:xfrm>
              <a:off x="5845320" y="1270080"/>
              <a:ext cx="28954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6"/>
            <p:cNvSpPr/>
            <p:nvPr/>
          </p:nvSpPr>
          <p:spPr>
            <a:xfrm>
              <a:off x="6531120" y="20322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整式方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7"/>
          <p:cNvGrpSpPr/>
          <p:nvPr/>
        </p:nvGrpSpPr>
        <p:grpSpPr>
          <a:xfrm>
            <a:off x="5940360" y="3860640"/>
            <a:ext cx="2819520" cy="2666880"/>
            <a:chOff x="5940360" y="3860640"/>
            <a:chExt cx="2819520" cy="2666880"/>
          </a:xfrm>
        </p:grpSpPr>
        <p:pic>
          <p:nvPicPr>
            <p:cNvPr id="133" name="Picture 18" descr="ri3hqoey[1]"/>
            <p:cNvPicPr/>
            <p:nvPr/>
          </p:nvPicPr>
          <p:blipFill>
            <a:blip r:embed="rId19"/>
            <a:stretch/>
          </p:blipFill>
          <p:spPr>
            <a:xfrm>
              <a:off x="5940360" y="3860640"/>
              <a:ext cx="28195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9"/>
            <p:cNvSpPr/>
            <p:nvPr/>
          </p:nvSpPr>
          <p:spPr>
            <a:xfrm>
              <a:off x="6626160" y="4698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式方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1"/>
          <p:cNvSpPr/>
          <p:nvPr/>
        </p:nvSpPr>
        <p:spPr>
          <a:xfrm>
            <a:off x="1061280" y="47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55556E-006 L 0.59167 0.12221 E">
                                      <p:cBhvr>
                                        <p:cTn id="11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31667 0.53334 E">
                                      <p:cBhvr>
                                        <p:cTn id="12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61666 0.34444 E">
                                      <p:cBhvr>
                                        <p:cTn id="12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L 0.35834 0.36667 E">
                                      <p:cBhvr>
                                        <p:cTn id="13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0.60834 -0.24444 E">
                                      <p:cBhvr>
                                        <p:cTn id="13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325 -0.25556 E">
                                      <p:cBhvr>
                                        <p:cTn id="13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63334 -0.01111 E">
                                      <p:cBhvr>
                                        <p:cTn id="14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5185E-006 L 0.325 -0.04445 E">
                                      <p:cBhvr>
                                        <p:cTn id="14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6147"/>
          <p:cNvGrpSpPr/>
          <p:nvPr/>
        </p:nvGrpSpPr>
        <p:grpSpPr>
          <a:xfrm>
            <a:off x="325440" y="496800"/>
            <a:ext cx="2729880" cy="808200"/>
            <a:chOff x="325440" y="496800"/>
            <a:chExt cx="2729880" cy="808200"/>
          </a:xfrm>
        </p:grpSpPr>
        <p:sp>
          <p:nvSpPr>
            <p:cNvPr id="137" name="矩形 7"/>
            <p:cNvSpPr/>
            <p:nvPr/>
          </p:nvSpPr>
          <p:spPr>
            <a:xfrm>
              <a:off x="885240" y="49680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 16"/>
            <p:cNvSpPr/>
            <p:nvPr/>
          </p:nvSpPr>
          <p:spPr>
            <a:xfrm>
              <a:off x="325440" y="78516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7"/>
            <p:cNvSpPr/>
            <p:nvPr/>
          </p:nvSpPr>
          <p:spPr>
            <a:xfrm>
              <a:off x="687240" y="734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6151"/>
            <p:cNvSpPr/>
            <p:nvPr/>
          </p:nvSpPr>
          <p:spPr>
            <a:xfrm>
              <a:off x="1380960" y="770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分式方程的解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6152"/>
            <p:cNvSpPr/>
            <p:nvPr/>
          </p:nvSpPr>
          <p:spPr>
            <a:xfrm>
              <a:off x="325440" y="7844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22"/>
          <p:cNvSpPr/>
          <p:nvPr/>
        </p:nvSpPr>
        <p:spPr>
          <a:xfrm>
            <a:off x="324000" y="144792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想一想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面我们一起研究下怎么样来解分式方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27280" y="41115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826920" y="31035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程两边同乘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对象 8196"/>
          <p:cNvGraphicFramePr/>
          <p:nvPr/>
        </p:nvGraphicFramePr>
        <p:xfrm>
          <a:off x="2338560" y="3608280"/>
          <a:ext cx="360504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对象 819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8560" y="3608280"/>
                    <a:ext cx="36050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11"/>
          <p:cNvSpPr/>
          <p:nvPr/>
        </p:nvSpPr>
        <p:spPr>
          <a:xfrm>
            <a:off x="324000" y="447192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检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代入分式方程，左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4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右边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原分式方程的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对象 8200"/>
              <p:cNvSpPr txBox="1"/>
              <p:nvPr/>
            </p:nvSpPr>
            <p:spPr>
              <a:xfrm>
                <a:off x="3564000" y="2168640"/>
                <a:ext cx="2087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9" name="对象 8197"/>
          <p:cNvGraphicFramePr/>
          <p:nvPr/>
        </p:nvGraphicFramePr>
        <p:xfrm>
          <a:off x="3780000" y="4111560"/>
          <a:ext cx="863280" cy="41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对象 819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0000" y="4111560"/>
                    <a:ext cx="8632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6713640"/>
            <a:ext cx="4859280" cy="360"/>
            <a:chOff x="0" y="6713640"/>
            <a:chExt cx="4859280" cy="360"/>
          </a:xfrm>
        </p:grpSpPr>
        <p:sp>
          <p:nvSpPr>
            <p:cNvPr id="152" name="Line 121"/>
            <p:cNvSpPr/>
            <p:nvPr/>
          </p:nvSpPr>
          <p:spPr>
            <a:xfrm>
              <a:off x="0" y="671364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0" y="671364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3"/>
          <p:cNvSpPr/>
          <p:nvPr/>
        </p:nvSpPr>
        <p:spPr>
          <a:xfrm>
            <a:off x="1017720" y="836640"/>
            <a:ext cx="16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式方程的解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39640" y="1484280"/>
            <a:ext cx="8123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使得分式方程等号两端相等的未知数的值叫做分式方程的解（也叫做分式方程的根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141200" y="263700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分式方程的步骤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2560" y="4148280"/>
            <a:ext cx="812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解这个整式方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38360" y="3195720"/>
            <a:ext cx="8123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去分母，在方程的两边同时乘以最简公分母，把分式方法转化为整式方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66720" y="4633920"/>
            <a:ext cx="8123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检验，把一元一次方程的根代入所乘的最简公分母中，看结果是否为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82560" y="5589720"/>
            <a:ext cx="812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写出是原分式方程的解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250920" y="1409760"/>
            <a:ext cx="83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 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分式方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对象 9219"/>
          <p:cNvGraphicFramePr/>
          <p:nvPr/>
        </p:nvGraphicFramePr>
        <p:xfrm>
          <a:off x="3203640" y="1338120"/>
          <a:ext cx="270504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对象 92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1338120"/>
                    <a:ext cx="27050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7"/>
          <p:cNvSpPr/>
          <p:nvPr/>
        </p:nvSpPr>
        <p:spPr>
          <a:xfrm>
            <a:off x="1992600" y="256068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程两边同乘以最简公分母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939760" y="320976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5=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668600" y="38242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3203280" y="385776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1039680" y="45784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检验：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代入原分式方程，发现这时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都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相应分式无意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是原分式方程的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2407320" y="587520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分式方程无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"/>
          <p:cNvSpPr/>
          <p:nvPr/>
        </p:nvSpPr>
        <p:spPr>
          <a:xfrm>
            <a:off x="5365800" y="3355920"/>
            <a:ext cx="2446200" cy="1150920"/>
          </a:xfrm>
          <a:prstGeom prst="wedgeEllipseCallout">
            <a:avLst>
              <a:gd name="adj1" fmla="val -65129"/>
              <a:gd name="adj2" fmla="val 456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什么会产生增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5280" y="241920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147"/>
          <p:cNvGrpSpPr/>
          <p:nvPr/>
        </p:nvGrpSpPr>
        <p:grpSpPr>
          <a:xfrm>
            <a:off x="325440" y="246240"/>
            <a:ext cx="3763800" cy="822960"/>
            <a:chOff x="325440" y="246240"/>
            <a:chExt cx="3763800" cy="822960"/>
          </a:xfrm>
        </p:grpSpPr>
        <p:sp>
          <p:nvSpPr>
            <p:cNvPr id="173" name="矩形 7"/>
            <p:cNvSpPr/>
            <p:nvPr/>
          </p:nvSpPr>
          <p:spPr>
            <a:xfrm>
              <a:off x="885600" y="246240"/>
              <a:ext cx="167328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7"/>
            <p:cNvSpPr/>
            <p:nvPr/>
          </p:nvSpPr>
          <p:spPr>
            <a:xfrm>
              <a:off x="68760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6151"/>
            <p:cNvSpPr/>
            <p:nvPr/>
          </p:nvSpPr>
          <p:spPr>
            <a:xfrm>
              <a:off x="898920" y="548640"/>
              <a:ext cx="319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分式方程的增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